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C0F-4958-46C0-9B9C-F3C6E637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381-3EAF-49EC-BAFD-CFB0A6DB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47D-E0F6-4EFF-A353-5C35C371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77D-089D-4CC4-9B16-E26FF088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CFF9-538D-4621-AC14-14A0EBA5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7A71-98B3-465A-88FD-1FE816A4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AF1B-089B-45D0-B6E0-8642C6BF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63A6-C617-492D-BF0D-E36C29E3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807C-1330-4D83-9DEE-92B6DBE0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58CF-62EB-4B88-8DC6-32A2581B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DCC0-2B08-497F-9C0A-2717A0D5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AAE-0961-4C7B-926C-59E2CE84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F85D-95B9-418F-96A1-C6BD1036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6CDE-C295-418B-BB9B-1E77B6E2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324A-6214-4E91-B13F-1E35A86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341F-E455-42AD-9C5F-48490E8C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0E5B-3377-417E-BC6E-65B81C6B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2FC-C938-4F8B-9361-81343679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119-1054-4326-B2A7-29A756F7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CE7-0503-4DBA-9545-2A84BB0B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606-551E-4EBE-B721-E5F10043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529-7F0D-493C-95F8-494B4CCE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879-5E76-4352-83F0-32FA515D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7D0-C29B-4586-9A04-F24F168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A417-6290-41EF-91D0-ABCE15E72CB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7790-52DB-469C-BA88-5CF859F913D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Unit On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Theoretical Assumptions in the Classroom</a:t>
            </a: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HHS 4M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Ms. Dana Dray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oretical Assump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67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basic theoretical assumptions of the following theories would explain what happens in a classroom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43280" y="3936960"/>
          <a:ext cx="254304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936960"/>
                    <a:ext cx="254304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unctionalis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Assumptions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Explains how society is to perform its required functions effectively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he family is an institution within society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Individuals within society have </a:t>
            </a:r>
            <a:r>
              <a:rPr b="1" lang="en-US" sz="2000" spc="-1" strike="noStrike">
                <a:solidFill>
                  <a:srgbClr val="5e855b"/>
                </a:solidFill>
                <a:latin typeface="Arial Narrow"/>
              </a:rPr>
              <a:t>roles</a:t>
            </a: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 to play, each role has to play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he most prevalent behaviours are called </a:t>
            </a:r>
            <a:r>
              <a:rPr b="1" lang="en-US" sz="2000" spc="-1" strike="noStrike">
                <a:solidFill>
                  <a:srgbClr val="5e855b"/>
                </a:solidFill>
                <a:latin typeface="Arial Narrow"/>
              </a:rPr>
              <a:t>“norms”</a:t>
            </a: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Change can occur if the structures within society can adjust to maintain an equilibrium, but this usually happens slowl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Arial Narrow"/>
              </a:rPr>
              <a:t>Education</a:t>
            </a: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he rules within the classroom give it structur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eachers have a higher </a:t>
            </a:r>
            <a:r>
              <a:rPr b="1" lang="en-US" sz="2000" spc="-1" strike="noStrike">
                <a:solidFill>
                  <a:srgbClr val="5e855b"/>
                </a:solidFill>
                <a:latin typeface="Arial Narrow"/>
              </a:rPr>
              <a:t>status </a:t>
            </a: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han student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eachers and students each have their own roles to perform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here are norms or expected behaviours within the classroom for teachers and studen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659640" y="0"/>
          <a:ext cx="220968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0"/>
                    <a:ext cx="22096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ystems Theor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855b"/>
                </a:solidFill>
                <a:latin typeface="Verdana"/>
              </a:rPr>
              <a:t>Assumption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ttempts to explains how groups of individuals interact as a system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here are subsystems within  the system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 change with one member of the system affect all othe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855b"/>
                </a:solidFill>
                <a:latin typeface="Verdana"/>
              </a:rPr>
              <a:t>Educatio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he classroom is a system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he teacher’s behaviour affects the behaviour, &amp; vice versa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viding feedback is importa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093080" y="333360"/>
          <a:ext cx="146664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333360"/>
                    <a:ext cx="14666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cc"/>
                </a:solidFill>
                <a:latin typeface="Arial"/>
              </a:rPr>
              <a:t>Symbolic </a:t>
            </a:r>
            <a:br>
              <a:rPr sz="4000"/>
            </a:br>
            <a:r>
              <a:rPr b="1" lang="en-CA" sz="4000" spc="-1" strike="noStrike">
                <a:solidFill>
                  <a:srgbClr val="ffffcc"/>
                </a:solidFill>
                <a:latin typeface="Arial"/>
              </a:rPr>
              <a:t>Interactionis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Assumption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Explains how individuals choose how they will act based on their perceptions of themselves and of other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People need to give meaning to their experiences before they act on them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ndividuals communicating with one another, but they may give different meanings to actions and word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Educa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eachers &amp; students each have their own perceptions of what it means to be a teacher and a student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How a teacher or student responds to a specific situation will depend on how each interprets the situa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eachers &amp; students may give different meanings to actions &amp; words &amp; this may cause problem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659640" y="260280"/>
          <a:ext cx="20574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60280"/>
                    <a:ext cx="2057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ocial Exchange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o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855b"/>
                </a:solidFill>
                <a:latin typeface="Verdana"/>
              </a:rPr>
              <a:t>Assumption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Explains the social factors that influence how individuals interact within relationship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Within their roles, individuals act to maximize the </a:t>
            </a:r>
            <a:r>
              <a:rPr b="1" lang="en-US" sz="2000" spc="-1" strike="noStrike">
                <a:solidFill>
                  <a:srgbClr val="5e855b"/>
                </a:solidFill>
                <a:latin typeface="Verdana"/>
              </a:rPr>
              <a:t>benefits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they receive and minimize the </a:t>
            </a:r>
            <a:r>
              <a:rPr b="1" lang="en-US" sz="2000" spc="-1" strike="noStrike">
                <a:solidFill>
                  <a:srgbClr val="5e855b"/>
                </a:solidFill>
                <a:latin typeface="Verdana"/>
              </a:rPr>
              <a:t>cost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to themselve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Benefits to and costs of relationships are based on individuals’ perceptions not on fact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2060640"/>
            <a:ext cx="403848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855b"/>
                </a:solidFill>
                <a:latin typeface="Verdana"/>
              </a:rPr>
              <a:t>Educ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When choosing to complete class assignments, students weigh the costs ( e.g. less time to talk to friends) and the benefits (e.g. a good mark)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020000" y="549360"/>
          <a:ext cx="165564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549360"/>
                    <a:ext cx="165564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nflict Theor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Assumption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Explains how power holds a society togethe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tates that conflict exists between groups because of </a:t>
            </a:r>
            <a:r>
              <a:rPr b="1" lang="en-US" sz="2400" spc="-1" strike="noStrike">
                <a:solidFill>
                  <a:srgbClr val="5e855b"/>
                </a:solidFill>
                <a:latin typeface="Arial Narrow"/>
              </a:rPr>
              <a:t>inequalities in powe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ssumes groups compete with one another to meet their needs, but the needs of all groups cannot be met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Educa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Can result in the exploitation of those with less power by those with greater powe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Within a school or classroom, there is a power imbalanc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n a classroom where students have more power or control than the teacher, the class will not function effectivel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164360" y="476280"/>
          <a:ext cx="15112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76280"/>
                    <a:ext cx="15112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eminist Theorie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855b"/>
                </a:solidFill>
                <a:latin typeface="Verdana"/>
              </a:rPr>
              <a:t>Assumption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Explain the impact of sex and gender on behaviou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Consider issues from the viewpoint of wome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Examine gender bia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Believe change is required to meet the needs of all peopl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Education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Within schools, teachers can apply knowledge of recent on how males and females learn differentl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3:41:20Z</dcterms:created>
  <dc:creator>dino</dc:creator>
  <dc:description/>
  <dc:language>en-US</dc:language>
  <cp:lastModifiedBy>OCDSB User</cp:lastModifiedBy>
  <dcterms:modified xsi:type="dcterms:W3CDTF">2011-02-09T16:26:13Z</dcterms:modified>
  <cp:revision>5</cp:revision>
  <dc:subject/>
  <dc:title>Unit One Theoretical Assumptions in the Classroom  </dc:title>
</cp:coreProperties>
</file>